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18C1-7ABE-4A37-A209-9CFA5BDD3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9EAB-5E9B-4FB2-AAB9-A5815CE02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666E-4AFA-4D56-A28C-42DF022F1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D0D3-6EAB-4C3D-B0F8-57C57453B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9F71-1654-4032-A26B-AA9E7DA41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5A6B-2754-41B8-AE29-39D6026E7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B379-9421-41D5-8C00-12F6A10A0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31DB-CD6E-44F8-81FE-520C166DB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FE38-A0CF-4612-95D9-CB0343FC8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9B18-6087-41FE-A512-B6CC10AC0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4CC1-CF82-4F46-9D69-CBECA71EE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85DE-EC32-495C-9689-075F727FE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30C3B-2B16-482A-BAC0-F1156155E8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Call to Worship (lame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e cry to God, we cry alou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the day of our troub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seek you, God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Has your steadfast love ceas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for ev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Arial"/>
              </a:rPr>
              <a:t>Are your promises at an e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Have you forgotten to be grac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and shut up your compass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e call God’s deeds to mind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remember your wonders of ol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muse up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r mighty work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Your way, O God, is holy.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Psalm 77:1-2, 8-9, 11-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3:41:22Z</dcterms:created>
  <dc:creator>Anon Anon</dc:creator>
  <dc:description/>
  <dc:language>en-US</dc:language>
  <cp:lastModifiedBy>Anon Anon</cp:lastModifiedBy>
  <dcterms:modified xsi:type="dcterms:W3CDTF">2005-08-09T05:35:42Z</dcterms:modified>
  <cp:revision>10</cp:revision>
  <dc:subject/>
  <dc:title>Call to Worship (lament)</dc:title>
</cp:coreProperties>
</file>